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8C2-20F6-4732-A963-3DAC9508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715-3B01-4EA3-948E-836C3DBD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3DA-E339-463E-98FB-E7733597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0E9-7C47-44F3-97E0-97FCA2D8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81C-7181-4C86-A2E7-C12F7F3A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0A2-399F-45FA-B67D-AE212077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9A5-EC70-4E7D-AAFC-A303572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7DD-6A6C-4531-B9AF-7F4072F3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67A-A75F-4797-A87B-1E125CF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E40-D980-4723-92C9-93F27FC9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F1B-C2AE-430A-9014-507A2D3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ED1-92D1-445E-8611-A410326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5D13-0C21-4F7E-8C10-989112A87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9680"/>
            <a:ext cx="10333080" cy="671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593640" y="33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re are also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83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5580000" y="4221000"/>
            <a:ext cx="1728720" cy="158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860640"/>
            <a:ext cx="1584360" cy="792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RESTAURANTS</a:t>
            </a:r>
            <a:r>
              <a:rPr b="0" lang="en-GB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AND 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3573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565360"/>
            <a:ext cx="1655640" cy="863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659640" y="2060640"/>
            <a:ext cx="1225440" cy="1368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TOWN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600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Inner c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ner city is a cheaper place to live and to work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 prices are therefore not as expensive as in the city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g factories are found here and back to back terraced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The suburbs of L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921440" cy="532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35280" y="3860640"/>
            <a:ext cx="23767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 you can see Roundhay is a suburb of L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suburbs there is more space and les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often parks such as Roundhay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uses normally have bigger gardens than houses in the inner ci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46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ff"/>
                </a:solidFill>
                <a:latin typeface="Arial"/>
              </a:rPr>
              <a:t>Cities like Leeds can face some problems…can you think of 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Over crow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Home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675640" cy="518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030640" y="549360"/>
            <a:ext cx="549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404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ff"/>
                </a:solidFill>
                <a:latin typeface="Arial"/>
              </a:rPr>
              <a:t>Where is L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148000" y="3357720"/>
            <a:ext cx="1368360" cy="718920"/>
          </a:xfrm>
          <a:prstGeom prst="line">
            <a:avLst/>
          </a:prstGeom>
          <a:ln w="104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6400" y="629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4560" y="981000"/>
            <a:ext cx="8569440" cy="587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85360" y="4797360"/>
            <a:ext cx="4586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3336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7628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99"/>
                </a:solidFill>
                <a:latin typeface="Arial"/>
              </a:rPr>
              <a:t>Areas within Leeds city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08720" y="5157720"/>
            <a:ext cx="1835280" cy="160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eds has a population of approximat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25,000 peop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872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12000" y="4076280"/>
            <a:ext cx="1081080" cy="792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84000" y="4221000"/>
            <a:ext cx="1081080" cy="79236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86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River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1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Mot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2800440"/>
            <a:ext cx="3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205000"/>
            <a:ext cx="1800360" cy="7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773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nd where are the transport links into the city cen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Leeds is also one of the top three shopping destinations in the count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879720" cy="319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32414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re are other activities in the evening…..can you think of s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81640" y="1906560"/>
            <a:ext cx="2571840" cy="1571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2160" y="3938760"/>
            <a:ext cx="296856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3311640" cy="165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356000" y="3645000"/>
            <a:ext cx="3729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ff"/>
                </a:solidFill>
                <a:latin typeface="Arial"/>
              </a:rPr>
              <a:t>Lots of sport is played in the city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3095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1600200"/>
            <a:ext cx="381636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43280" y="4027320"/>
            <a:ext cx="3961080" cy="23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3457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cities follow the same lay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208720" cy="3959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755640" y="54936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ITY CENTRE IS PACKED WITH SHOPS AND SERIVCES THIS IS WHAT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eds city squa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084720" y="4149360"/>
            <a:ext cx="432000" cy="230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740720" y="5157720"/>
            <a:ext cx="360360" cy="122400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771280" y="4652640"/>
            <a:ext cx="3603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638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s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7840" y="61848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638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645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3Z</dcterms:created>
  <dc:creator>Information Systems Services</dc:creator>
  <dc:description/>
  <dc:language>en-US</dc:language>
  <cp:lastModifiedBy>Pauline kneale</cp:lastModifiedBy>
  <dcterms:modified xsi:type="dcterms:W3CDTF">2003-05-20T17:03:17Z</dcterms:modified>
  <cp:revision>22</cp:revision>
  <dc:subject/>
  <dc:title>Leeds City Centre</dc:title>
</cp:coreProperties>
</file>